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8170-D444-431B-9F5B-E4132A93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C591-DBC6-442A-A87A-65AD801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26FC-45B3-4415-ADB6-7E0A8D97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BB7C-D98C-4523-B62B-471E4BD9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75AC-DA33-4CD0-92CB-1BDD9FDC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1F5D-045D-49B9-80EA-C13F4B1E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A87A-0B17-4522-B9A1-99B6F157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4DA7-16DD-4EFE-A980-36EABB34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7FA-25AA-4AA9-A340-92F076F5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415E-BA4D-4B62-B658-D2444535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851A-D2E2-4A15-AB71-C7CBA80B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47CA-53F2-4AD9-AE0E-1404273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CB5E-B036-4B3F-8CD2-DD997D3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11C1-BBD0-4744-8A45-F7A9446D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B2B4-2859-4E28-B0C0-0C6FFDCC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51AE-BAF1-43C0-9055-B232D02B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3C33-3D98-410A-A9A8-7201D875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DEB0-1BD1-46E2-ABA7-4BC3C150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30C6-2A18-452A-8F13-F4801F03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A1F1-EC6A-4322-8F3F-F91FD742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8822-1796-4601-88F4-17509568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9C23-8C2A-44E6-8BD3-CDF74ACB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EEC8-9630-4C4F-B27A-DCABCAD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447E-8E34-44FF-9DE4-D2085A1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57B0-9076-43CC-930E-E5D64EFC0F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ABC1-B92C-4281-995E-8417C1C9D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Refuge In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r Island Ret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bout the Refuge In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y owned since 19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uble rooms, suites, and effici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ellent restaurants near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king, boating, and biking in the Massassoit National Wildlife Refu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king and Bi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fuge offers over 10 miles of paved trails for walking or bik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e Trail follows the dunes from the Visitor Center 5 miles to Brant Poi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5264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ldlife View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iew many species of bird, deer, small animals, and wild ponies from trai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servation decks give excellent view of ducks, geese, and other migratory bi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uge Regu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shing/crabbing permitted in designated are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uge pools closed to all boa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mping not permitt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ats permitted on Brant Point from September 1 to March 1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en fires prohibited except by special perm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sit Us Soon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year 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s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 555-555-4509 for more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2:57:43Z</dcterms:created>
  <dc:creator>Connie Morrison</dc:creator>
  <dc:description/>
  <dc:language>en-US</dc:language>
  <cp:lastModifiedBy>Julie Hotchkiss</cp:lastModifiedBy>
  <dcterms:modified xsi:type="dcterms:W3CDTF">2004-09-25T18:29:16Z</dcterms:modified>
  <cp:revision>5</cp:revision>
  <dc:subject/>
  <dc:title>Slide 1</dc:title>
</cp:coreProperties>
</file>